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D9D73E-C496-48F9-9E2C-C423BFED9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F935B4-6148-4238-9163-6ED6E862B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CA27FA-2A5C-4F83-8492-645B7420A6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EA56B8-0FCC-43E7-A996-ECEDFAFA62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2F67F-675A-4EBD-9239-F44B976BC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36469-F82D-4C53-B456-22CD61B5F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71C3A-1E9B-4EA4-A2CF-6D505A44D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EA9C6-8B88-41A0-90BC-D3A80581D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474FD-B28A-40CC-B841-3EE4C1324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220A4-DB92-46C9-94C3-9C91EB357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07E53-DED4-437A-9C31-F52A95256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BBF84C-B260-4FC5-AD1F-D8FD84982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E2219-65C5-4B4F-AAB9-7D5933B81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7FBDD-040F-460E-A05C-6BD8C1012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6EA07-7FB9-4647-A8EB-11A55442A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5D51F-61E2-4D77-97E0-42A655A15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D4510-291D-4FC1-8BDE-1900153C0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937096-F57A-45BA-98A0-E99C0F8C1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EB5EF9-D1DD-43E8-B2EF-07F703A7D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C0AF63-8CD5-44BA-8D1C-1B7E800BC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6C9E7D-6F40-438F-A89C-168E3DEA6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E6C671-AD98-446A-BD48-E1F137D1B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FF778D-FA0C-4B9A-BCA1-A819E2DBA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E729FC-9E90-4DA5-9A4A-8C160FFF2B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3321-4823-494A-9D3F-B37E922ECB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3D58-05DB-473F-9408-C7C542AA3A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powerweb.net/bbock/war/" TargetMode="External"/><Relationship Id="rId2" Type="http://schemas.openxmlformats.org/officeDocument/2006/relationships/hyperlink" Target="http://www.civilwarhome.com/medicinehistory.htm" TargetMode="External"/><Relationship Id="rId3" Type="http://schemas.openxmlformats.org/officeDocument/2006/relationships/hyperlink" Target="http://www.civilwarinteractive.com/PoulticePlasterParegoric.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hyperlink" Target="http://i.ehow.com/images/GlobalPhoto/Articles/4576590/73616_Full.jpg" TargetMode="External"/><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99"/>
                </a:solidFill>
                <a:latin typeface="Arial"/>
              </a:rPr>
              <a:t>Medical Progress of The Civil War</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ff66"/>
                </a:solidFill>
                <a:latin typeface="Arial"/>
              </a:rPr>
              <a:t>Taryn Slothour</a:t>
            </a:r>
            <a:r>
              <a:rPr b="0" lang="en-US" sz="3400" spc="-1" strike="noStrike">
                <a:solidFill>
                  <a:srgbClr val="000000"/>
                </a:solidFill>
                <a:latin typeface="Arial"/>
              </a:rPr>
              <a:t>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8" name="" descr=""/>
          <p:cNvPicPr/>
          <p:nvPr/>
        </p:nvPicPr>
        <p:blipFill>
          <a:blip r:embed="rId1"/>
          <a:stretch/>
        </p:blipFill>
        <p:spPr>
          <a:xfrm>
            <a:off x="380880" y="5056200"/>
            <a:ext cx="2667240" cy="15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eading the information on my slide show you should remember most of the statistics like the number of deaths to the number of men that served.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something that should stick in your head is the facts verses myths. </a:t>
            </a:r>
            <a:endParaRPr b="0" lang="en-US" sz="3200" spc="-1" strike="noStrike">
              <a:solidFill>
                <a:srgbClr val="000000"/>
              </a:solidFill>
              <a:latin typeface="Arial"/>
            </a:endParaRPr>
          </a:p>
        </p:txBody>
      </p:sp>
      <p:sp>
        <p:nvSpPr>
          <p:cNvPr id="134" name=""/>
          <p:cNvSpPr txBox="1"/>
          <p:nvPr/>
        </p:nvSpPr>
        <p:spPr>
          <a:xfrm>
            <a:off x="2209680" y="685800"/>
            <a:ext cx="5029200" cy="114300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Wat to REMEMBER</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powerweb.net/bbock/w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2"/>
              </a:rPr>
              <a:t>http://www.civilwarhome.com/medicinehistory.ht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3"/>
              </a:rPr>
              <a:t>http://www.civilwarinteractive.com/PoulticePlasterParegoric.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
          <p:cNvSpPr txBox="1"/>
          <p:nvPr/>
        </p:nvSpPr>
        <p:spPr>
          <a:xfrm>
            <a:off x="1905120" y="533520"/>
            <a:ext cx="50292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ork Cited</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Arial"/>
              </a:rPr>
              <a:t>What will you learn?</a:t>
            </a: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You will learn about the medical help and technology of the Civil Wa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Plus some statistics of the numbers involved in the w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4572000" y="3657600"/>
            <a:ext cx="4267080" cy="29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ast Facts!!!</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Surgeons in the war had minimal train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ivil War doctors were nicknamed “butchers</a:t>
            </a:r>
            <a:r>
              <a:rPr b="0" lang="en-US" sz="3200" spc="-1" strike="noStrike">
                <a:solidFill>
                  <a:srgbClr val="00ffff"/>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Bullets carried dirt and germs that caused many of the wars death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6172200" y="4343400"/>
            <a:ext cx="194940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Fast Fact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Disease was the biggest killer of the w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Their was no  age limit on when you could join the army. (some soldiers were as young as 11 or 12)</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yth</a:t>
            </a:r>
            <a:r>
              <a:rPr b="0" lang="en-US" sz="4400" spc="-1" strike="noStrike">
                <a:solidFill>
                  <a:srgbClr val="000000"/>
                </a:solidFill>
                <a:latin typeface="Arial"/>
              </a:rPr>
              <a:t> or </a:t>
            </a:r>
            <a:r>
              <a:rPr b="0" lang="en-US" sz="4400" spc="-1" strike="noStrike">
                <a:solidFill>
                  <a:srgbClr val="99ff66"/>
                </a:solidFill>
                <a:latin typeface="Arial"/>
              </a:rPr>
              <a:t>F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Arial"/>
              </a:rPr>
              <a:t>    </a:t>
            </a:r>
            <a:r>
              <a:rPr b="0" lang="en-US" sz="3200" spc="-1" strike="noStrike">
                <a:solidFill>
                  <a:srgbClr val="99ff66"/>
                </a:solidFill>
                <a:latin typeface="Arial"/>
              </a:rPr>
              <a:t>Were soldiers real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Arial"/>
              </a:rPr>
              <a:t>undergoing surgeries without anesthetic?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Arial"/>
              </a:rPr>
              <a:t>    </a:t>
            </a:r>
            <a:r>
              <a:rPr b="0" lang="en-US" sz="3200" spc="-1" strike="noStrike">
                <a:solidFill>
                  <a:srgbClr val="ff0000"/>
                </a:solidFill>
                <a:latin typeface="Arial"/>
              </a:rPr>
              <a:t>Were the screams people heard really from soldiers being cut with Butcher knive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At the Beginning of the war!</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union at the start of the war only had a surgeon general, thirty other surgeons and eighty-three assistant surgeons. But at the end of the war more than 11,000 doctors/ surgeons had served in the wa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s for the confederates there numbers at the start of the war were much lower. But each of there regiments were  equipped with a general sergeon and an assistant surge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52280" y="533520"/>
            <a:ext cx="3838680" cy="2262240"/>
          </a:xfrm>
          <a:prstGeom prst="rect">
            <a:avLst/>
          </a:prstGeom>
          <a:ln w="0">
            <a:noFill/>
          </a:ln>
        </p:spPr>
      </p:pic>
      <p:pic>
        <p:nvPicPr>
          <p:cNvPr id="123" name="" descr=""/>
          <p:cNvPicPr/>
          <p:nvPr/>
        </p:nvPicPr>
        <p:blipFill>
          <a:blip r:embed="rId2"/>
          <a:stretch/>
        </p:blipFill>
        <p:spPr>
          <a:xfrm>
            <a:off x="3505320" y="2362320"/>
            <a:ext cx="2971800" cy="2228760"/>
          </a:xfrm>
          <a:prstGeom prst="rect">
            <a:avLst/>
          </a:prstGeom>
          <a:ln w="0">
            <a:noFill/>
          </a:ln>
        </p:spPr>
      </p:pic>
      <p:pic>
        <p:nvPicPr>
          <p:cNvPr id="124" name="" descr=""/>
          <p:cNvPicPr/>
          <p:nvPr/>
        </p:nvPicPr>
        <p:blipFill>
          <a:blip r:embed="rId3"/>
          <a:stretch/>
        </p:blipFill>
        <p:spPr>
          <a:xfrm>
            <a:off x="6095880" y="1295280"/>
            <a:ext cx="2133720" cy="1408320"/>
          </a:xfrm>
          <a:prstGeom prst="rect">
            <a:avLst/>
          </a:prstGeom>
          <a:ln w="0">
            <a:noFill/>
          </a:ln>
        </p:spPr>
      </p:pic>
      <p:pic>
        <p:nvPicPr>
          <p:cNvPr id="125" name="" descr="See full size image">
            <a:hlinkClick r:id="rId4"/>
          </p:cNvPr>
          <p:cNvPicPr/>
          <p:nvPr/>
        </p:nvPicPr>
        <p:blipFill>
          <a:blip r:embed="rId5"/>
          <a:stretch/>
        </p:blipFill>
        <p:spPr>
          <a:xfrm>
            <a:off x="5867280" y="4495680"/>
            <a:ext cx="2895840" cy="2157480"/>
          </a:xfrm>
          <a:prstGeom prst="rect">
            <a:avLst/>
          </a:prstGeom>
          <a:ln w="0">
            <a:noFill/>
          </a:ln>
        </p:spPr>
      </p:pic>
      <p:pic>
        <p:nvPicPr>
          <p:cNvPr id="126" name="" descr=""/>
          <p:cNvPicPr/>
          <p:nvPr/>
        </p:nvPicPr>
        <p:blipFill>
          <a:blip r:embed="rId6"/>
          <a:stretch/>
        </p:blipFill>
        <p:spPr>
          <a:xfrm>
            <a:off x="0" y="4000680"/>
            <a:ext cx="3809880" cy="2857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066680" y="990720"/>
            <a:ext cx="6782040" cy="5086080"/>
          </a:xfrm>
          <a:prstGeom prst="rect">
            <a:avLst/>
          </a:prstGeom>
          <a:ln w="0">
            <a:noFill/>
          </a:ln>
        </p:spPr>
      </p:pic>
      <p:sp>
        <p:nvSpPr>
          <p:cNvPr id="128" name="PlaceHolder 1"/>
          <p:cNvSpPr>
            <a:spLocks noGrp="1"/>
          </p:cNvSpPr>
          <p:nvPr>
            <p:ph type="title"/>
          </p:nvPr>
        </p:nvSpPr>
        <p:spPr>
          <a:xfrm>
            <a:off x="380880" y="5335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66"/>
                </a:solidFill>
                <a:latin typeface="Arial"/>
              </a:rPr>
              <a:t>Stat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66"/>
                </a:solidFill>
                <a:latin typeface="Arial"/>
              </a:rPr>
              <a:t>620,000 men 360,000 northerners and 260,000 southerners died in the four year conflic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110,000 union soldiers and 94,000 confederate soldiers died from actual wounds they got in batt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66"/>
                </a:solidFill>
                <a:latin typeface="Arial"/>
              </a:rPr>
              <a:t>75% of soldiers undergoing amputations lived.</a:t>
            </a:r>
            <a:r>
              <a:rPr b="0" lang="en-US" sz="2800" spc="-1" strike="noStrike">
                <a:solidFill>
                  <a:srgbClr val="0000ff"/>
                </a:solidFill>
                <a:latin typeface="Arial"/>
              </a:rPr>
              <a:t> </a:t>
            </a:r>
            <a:endParaRPr b="0" lang="en-US" sz="28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About half of the deaths in the Civil War were from disease.</a:t>
            </a:r>
            <a:r>
              <a:rPr b="0" lang="en-US" sz="1600" spc="-1" strike="noStrike">
                <a:solidFill>
                  <a:srgbClr val="cc00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33520"/>
            <a:ext cx="82296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1" name=""/>
          <p:cNvSpPr txBox="1"/>
          <p:nvPr/>
        </p:nvSpPr>
        <p:spPr>
          <a:xfrm>
            <a:off x="990720" y="685800"/>
            <a:ext cx="67816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ruth about the Myth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32" name=""/>
          <p:cNvSpPr/>
          <p:nvPr/>
        </p:nvSpPr>
        <p:spPr>
          <a:xfrm>
            <a:off x="1143000" y="2362320"/>
            <a:ext cx="6781680" cy="3018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Almost all of the surgeries were done with anesthesia with means that the soldiers had basically no pain. But there were some procedures that had to done right then and there in the fiel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46:28Z</dcterms:created>
  <dc:creator>tarynaslothour</dc:creator>
  <dc:description/>
  <dc:language>en-US</dc:language>
  <cp:lastModifiedBy>tarynaslothour</cp:lastModifiedBy>
  <dcterms:modified xsi:type="dcterms:W3CDTF">2009-03-27T15:55:02Z</dcterms:modified>
  <cp:revision>12</cp:revision>
  <dc:subject/>
  <dc:title>Medical Progress of The Civil War</dc:title>
</cp:coreProperties>
</file>